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  <p:sldId id="278" r:id="rId55"/>
    <p:sldId id="279" r:id="rId56"/>
    <p:sldId id="280" r:id="rId57"/>
    <p:sldId id="281" r:id="rId58"/>
    <p:sldId id="282" r:id="rId59"/>
    <p:sldId id="283" r:id="rId60"/>
    <p:sldId id="284" r:id="rId61"/>
    <p:sldId id="285" r:id="rId62"/>
    <p:sldId id="286" r:id="rId63"/>
    <p:sldId id="287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slide" Target="slides/slide23.xml"/><Relationship Id="rId56" Type="http://schemas.openxmlformats.org/officeDocument/2006/relationships/slide" Target="slides/slide24.xml"/><Relationship Id="rId57" Type="http://schemas.openxmlformats.org/officeDocument/2006/relationships/slide" Target="slides/slide25.xml"/><Relationship Id="rId58" Type="http://schemas.openxmlformats.org/officeDocument/2006/relationships/slide" Target="slides/slide26.xml"/><Relationship Id="rId59" Type="http://schemas.openxmlformats.org/officeDocument/2006/relationships/slide" Target="slides/slide27.xml"/><Relationship Id="rId60" Type="http://schemas.openxmlformats.org/officeDocument/2006/relationships/slide" Target="slides/slide28.xml"/><Relationship Id="rId61" Type="http://schemas.openxmlformats.org/officeDocument/2006/relationships/slide" Target="slides/slide29.xml"/><Relationship Id="rId62" Type="http://schemas.openxmlformats.org/officeDocument/2006/relationships/slide" Target="slides/slide30.xml"/><Relationship Id="rId63" Type="http://schemas.openxmlformats.org/officeDocument/2006/relationships/slide" Target="slides/slide31.xml"/><Relationship Id="rId64" Type="http://schemas.openxmlformats.org/officeDocument/2006/relationships/slide" Target="slides/slide3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788F-9EB4-4CE1-8390-36F5EEAD9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4B89-ADEE-4713-AB3F-1829BB303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ACE6A9-32F0-43A5-B057-5B1177F2A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5856C7-DAB8-4F83-B785-3F2E30E40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67F565-A924-4195-B896-3C7D3013B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95A52F-D5DB-486E-8DDF-74D2EF50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C394BD-63E9-49EB-8469-7DAC0A13A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94CABE-EB1C-4379-A7A7-A8B8C9F3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C18090-DEE3-4A52-A326-86B8D0772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A1918A-06BF-4523-8FCE-E1972C6FA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FF37B5-0F17-4D66-9635-19C8D0D20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E428EB-68FA-4A0B-992E-5E18F855F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B377-0F14-4DEE-BCBC-D9EE26DF7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2EC8B6-F5C2-45AA-91AE-EC03078DC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1C680A-4E99-4D61-A4F1-CF3E677CD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C662EA-20C4-43EB-B973-800C15EEA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625AD8-0ED6-45EA-9900-D88268F8F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7F106F-5A51-4606-B31E-BE10EAB51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74D6E5-4324-4342-83D6-536C30B4A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E8EAB8-88CD-4E6D-AAF3-AA609705D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2F53A9-C40E-48B8-99EA-16F8DBC8F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3F97B2-0752-4641-9F38-149C9BFDB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063656-CE30-4DB9-A0D5-90BAC5DF8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D4AA-B0C9-478A-9B29-C835A15EE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9CF8D4-80D7-4F1C-897E-791470BA6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7E0D34-809B-4536-B3FE-DBA05E7C7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110E79-2560-4076-BE74-BB687FB11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D8541B-1609-4D0F-950C-3A9E36AC5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050EDD-8236-46BE-B083-B0BEDA783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E3CD33-1668-443D-A207-6019745E4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602444-D77E-413A-A6CE-1B33AF3F0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7B9A36-85F8-4743-9203-2CC769494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C6F9BA-8025-4789-ADBF-F73011F4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6C5332-4C30-4A7A-BCBF-1633870B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A9B3B-91BD-4EF9-B5DA-77316D9CF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34E572-E8CD-4656-9525-93DA66346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4AAC41-A008-4499-9DFC-FF1649D61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B2F597-9C12-49E1-960C-F4D125987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660949-91D3-4E28-A5C8-D9D432B59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AD373B-11B3-4872-9419-A59C7F5FB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C22C0D-88F5-4921-8D00-5CE43D33E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1F66D2-0BF3-4453-A1BF-DC5DB66A9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9C5B62-8CD3-4A9F-B873-EEA0FE0E8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F3C99B-EA7F-4215-B15C-4F8A9F699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E97709-AB29-43C7-9B6B-D6155360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4C2BB-92E2-468A-82C4-CE0D4DEB7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27A7D2-77FC-4D02-BE9B-C61A3F2C9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C717AE-450D-4A7B-B7FC-D86BB8D0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D71589-EDC2-48A8-88AA-1EF86C774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397E15-966F-4258-9B8B-B445342FC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40A4B3-38C0-4497-A51E-2D0128CF9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17ADC2-22B6-4B72-8E0A-F089E0303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6FFB00-9BFA-4E22-B4AD-40C3B2F77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CFF565-1D15-4779-AA4B-6B0E5C666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F1F592-953E-4825-AA64-8C192D670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02571B-F0C9-4AE5-B3E0-F0478D0F7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DC694-D8B4-42D6-858A-98E5942B3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EF18FA-F4B2-499F-A88D-7FFB16901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A1084E-7877-4D63-9286-76B6D64D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15A42F-EF16-4067-BF37-F9086767B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82A34C-ADAD-480D-B947-69F3FD68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55C278-E296-43D9-AFC9-C2BC4D010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7B2FDA-8696-4009-8E0F-EDC56FFC2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A75A6F-3971-4B3B-924A-172FE160C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467C92-A034-4883-B8BB-875223A0F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FB0B97-C2F7-4A46-A5F5-B4E187D78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5B23FB-F4F2-40B0-AEF1-5A2FB4581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0A018-FD6B-4E3E-8764-4EA00C610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B6F8D7-9EAA-424F-8581-6ACDCD672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856E23-57B0-4237-B922-0F351E234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18D86C-B9D3-4531-BAB2-D1B09B262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1F28A3-2ECF-4614-8AC4-96E6786C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F0DE72-5377-400F-A715-36FB224F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D2EE14-BC1B-48C8-8123-09755867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0869E2-4EBD-4B38-92D0-E0E1B05AE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69EE3B-6590-4EE6-BAD2-C050BEA82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9CCAE1-45A3-4C3E-AF65-A140B5A43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A17C80-BDB0-4E78-B4BD-9A9706363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0C593-CF1E-4883-9CD7-4D1F1B6D4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3C32B2-A6DC-475F-83BA-8136659AA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58291B-C6F1-4A2B-9E27-B3C03DC17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B0326D-AC44-4B9E-9082-641A53C31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F1D062-1C03-47F2-98E7-F30648F49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9CFD54-A0E9-4849-98BD-B5656EF20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14EE12-6F60-4BE4-B00D-23ED97CB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7BC45E-956F-4BED-A2F7-D2805B08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4F415D-937C-48C3-90DE-DA35DC28A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693F51-BF3A-4A91-B2FC-8DB465787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D92C96-023D-4450-885B-D0B182F2C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20709-6B88-4315-A80A-F4E2C7392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C9B18F-7B81-4F4B-B64F-E18B68E7A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57E499-E8C8-4565-B132-C3A631A71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4F6A24-B7D9-4F25-90A8-404E32057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797A77-1A6C-42A4-923C-BBC51ECCA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9F74CB-0682-4243-BF9A-3814DD34A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4A380F-A288-44F3-888D-661A56C65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357781-AC12-4CD8-8F37-550C7B3DD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F341A1-951F-42AE-AA95-0ACF653CD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36B673-3F49-4512-8447-5FB6696C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BD08FB-3F02-4457-896E-A0C1992F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8104A-121B-4E91-B540-5A6E7DAAE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527618-C546-4536-B25E-D4B09721F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A156D8-79CD-48A5-9C9D-CD15AE614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2F7E5A-0591-4C71-BA50-3600EAF17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961E40-A70A-4CE6-A009-CB924F66B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25CA9C-6B80-422A-872B-C917D3A7C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F4EAEA-7E07-453A-B49B-FE9F9ED22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44A61A-C0AC-4B77-BA44-0A746BEF6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8EF674-9063-43A2-B55B-6DC05A889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CC1F13-CF3E-49F8-AB20-429E9F3F9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83B207-C16D-4B17-B736-AB9E1048E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4723-3605-4FE3-9C5A-5F04FBAAA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136FD-8339-40B9-B375-75073092E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BEBF43-C43D-41F7-AF45-16DF089C4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781D29-D2EF-428F-9225-FA651084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ED950D-B5BB-47DF-B619-931E4BDE3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C7115C-5081-42F4-B887-9BA5994EC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87597F-7C2B-41A9-9F56-7D11E04AD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4D523B-0851-43C3-AB60-2BD511B25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1CAD29-171D-4688-A7AB-CDC03A6DD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AFD910-013A-4AD2-BAA1-6B0DCD490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ECC53C-5169-4D0A-8192-D117915CA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163757-B430-4976-A345-3F4E6F4DA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4321C-8768-4A2A-888E-FB7DA5430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3A2BF0-6C80-480D-999E-42D018323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CF978C-7281-46E4-93A6-6D84C5C7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40901A-E2F7-4FE1-9FFD-0AE6A3919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6D8C2F-AC5F-489A-AFBB-EEB5D56D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0FEBDF-F276-4A1A-8B08-3D3559892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3E0E40-1F3B-4023-9B80-93B106797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F2A28F-9528-48E7-A039-E9B8973B5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719431-97E4-4F86-B32C-BBB6BB52D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020FF9-9DD7-423F-BE0D-25BE5B51A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AA0005-2B6E-42EB-83BB-039081FCD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B33CC-775C-43A9-9E7C-B891D36C5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9BB02C-B909-4172-8C81-A2BE053AA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D23796-7106-43EC-B36A-97F72E60A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815FC4-BF2D-47EB-8A0C-E872B5543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0AD15F-6D72-42D0-952D-9627CCCC7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FE3664-049E-41EC-880E-F6F8105E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0A90B2-F137-4BE2-821A-73791B7C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275213-6B4A-4B3D-9BE2-E789B8DA1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985CD3-14BD-4468-AA3A-D5607CE4A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B2AB99-5D0C-456E-B995-B01CF3979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A52DCD-EAB3-44AA-9C91-655F5BF2B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8F39C-BF7E-40C2-BDAB-FDEC6AD82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2DEB23-BDA2-447F-B681-0A1FB1D00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45ED69-8E39-4807-80BA-2752AFD31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FC85E3-6AFE-4044-B40C-D45DAF056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BD124B-58F6-4F7D-B812-523CF048C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9A8FBD-F4F8-443D-B3C4-D9F2296F0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B00E44-E35F-40B2-8B9E-4FD05639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3554E4-27B3-49B0-900C-D9B7A877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4CDA4A-108F-4E65-8513-E8BEA62D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E54E8E-EF4F-4C38-AF78-FEA6FCBE6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717C19-8085-460A-AD8B-AB065E143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82C5C-D99B-4F43-A34B-269D95727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174C1C-C0BB-4E6A-9E10-2396AF745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C8DCFF-4E19-43DF-98B2-367938867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D9061A-A4DB-4BE2-96E5-D1864C14A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23C175-2EFB-48D4-8A73-E10930A3B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4481D7-61FC-4706-B856-DCC6681D6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46EF41-96D8-4ED3-A9B1-29B7B7D94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1EA61B-9837-4BD5-B25E-8F6171EE0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4577D3D-CE23-4F21-A971-D679AB9E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A526C5-3C67-468F-88F8-04192709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892045-4931-40D0-ADF8-32801607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20FBE-48B6-4112-BBA0-4B3E393D7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DC5644-0DBD-4EE6-97A5-B4A1FFCB1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16EDA9-5981-4FD8-AB7B-2B9117F75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76C3F6-0427-46B8-A631-65CA3FD8B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F72EEE0-99AB-4AE8-BA5A-1859D10A4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563EF3C-24C7-4619-8BB9-1D025384A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E63DAA6-B937-4722-BE0D-8F8F70913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E9656CC-2744-4618-B483-92DD78D3E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D8D7413-70E9-4792-8A82-1B42BCB14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8673865-D27F-480B-A240-3D63A1DA7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72CD98B-4B72-452A-8F23-74890738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E192A-A477-4E11-9065-F59645FD1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99739D1-ABAD-4546-89B3-2B16E0BB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1BE608D-CBAA-4FFD-BF69-E27997EDF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D414722-A220-4EE3-80DB-68422DB75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E995C82-5927-4B09-B21B-4A58CFA77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ABCB608-9D0A-4566-9D63-7C780FE38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F1CCFF4-A491-4BCD-AEB7-ADF7FCDE1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0D61F81-9D0A-4469-A455-E16BED0E2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B125131-4DEE-42FE-9E63-E18864580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0F34AA2-11D5-460B-A69C-4B5DB9AF0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050FC6B-4578-4D55-BA34-6C382CC94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A61FC-433D-4622-9042-9BDD80AA0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8F73FB5-7B48-4874-90A4-BBC2C27DE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6C4D9F1-EE53-4E8E-A105-B9596ACAB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F5BB544-A17D-4442-98CB-BF338E61F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0889128-3D84-46F0-A558-EE871904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49A56CD-846B-445F-A2B8-79FF4DC32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707CE9E-68B3-410A-8DB3-8019C955E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5266ABD-2470-4D8E-AB89-B19B8E533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9DC5583-C247-4052-A975-4507B170B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48C6420-9BA2-41D7-95D8-113426DFA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9B6724E-A7F0-4E26-8835-5521D4C9A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C1705-75FB-4EFA-9BE6-AF0674CFC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21AD916-C02D-4AA8-9774-FF4EC699D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31900AB-9DB3-45CD-A330-8D4A1AFF6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70D7F8A-3D8E-4CDC-97D5-0CB06C37D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D223D64-1B21-4BC6-9608-174E334F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6C888FD-918B-4DE3-88EC-9F5DBF8E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77F6F67-712B-4E88-89A3-D04B05C4C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F1A9B48-A345-49F4-A530-39AA8F6A7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9BD0B8F-30C9-4B54-9F50-9FD43C672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8157736-B9A6-4098-9F7C-8323757B8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708F4F9-2192-43CA-8FE3-32D7375A7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2B4E0-DC40-4C1A-8FFA-ADCA9A3A9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49D11FC-6259-4C47-8B56-30A8507C6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BE360DA-061A-46E0-B62C-926F686BA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8DE2D4A-AC39-4599-92A7-4485D7F04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F331752-4F7D-41C6-AC0F-13C3434AA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CDD50BC-2390-4A20-909E-6258686B9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526E026-38EC-4B7F-B586-215242EB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9C2343C-75D4-405B-911F-1F6E2E87D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D89D119-97D7-43D6-AAE7-433A40AE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A3748BA-7C16-45FB-8CC9-0477E3FD5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DD67D5F-746C-44D0-8A63-533591422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2105-6B4A-4127-BB41-BD2FC198E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19165-4DB8-4657-B40D-7C77D58EE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D5D02CC-1125-4F8E-B4DB-9A209646E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30925E8-2A2A-4BC0-AC3E-0FE7BF2D6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12C2434-69A3-470C-9CC2-2D8B64CED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502D4A2-92BE-45E5-8F47-7EFF4C4D7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4BCB82A-4C2F-4B1C-92B1-C1F1155A1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D9AC36D-1D2F-4198-BD39-965824319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41CFF54-185E-40DD-B95C-65ACF532D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650EE24-BE14-4659-B948-A07CBB939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0342BE8-5546-4B29-B6C2-147A834C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994CECB-1A37-4A8A-9CA0-529EE0C85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4B4B3-53D7-4549-8EC8-0E3EEDAE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F7AD694-A8DD-4D07-8D03-08DCCB799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60C4861-DC37-4E31-A5A8-B882FA8BA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D3DB975-AE3E-4BB7-AB98-895B85A95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6C48212-BAC0-4B3F-9867-0B768A2E4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0CBE2E4-E045-425B-880C-C0D816B1F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D3A69B7-2E65-4CF8-ABE8-05E7BE7DC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2A9AAE5-87CB-4C9A-98AE-32D017BBA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12A2357-A4A4-4F61-BF18-411993D93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45A72C7-C05E-4405-AB76-6E8AED70C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733EA84-58CD-498C-8ACC-D54D1FDC1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DEAC2-1A97-49EA-8272-58B67A81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911D992-E62E-4B32-AB8A-B5074E1F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3389ACB-040E-4431-9588-D0DBF3D9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A20B4DF-DC19-446C-A13E-82F050456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9C05C71-865C-4AA3-A1A1-2182E21A1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03DE390-6607-4F35-B6B8-81E225555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862FC77-C144-47E1-A7F1-9FC7E38A3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DAB4A54-30C0-48DB-80B8-AAE0F942E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B4F750E-43F5-4D7A-B0D1-D62F9FC3D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CBCC0B0-CB20-4389-B8EB-ACF32C123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C345B55-CD4F-4899-BA5A-42B4E8919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ABBE3-953A-463F-834B-77403CAAC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EEEE405-4A56-45ED-A7B1-636EE8343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82C3B00-5126-43C0-861C-955D59A6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4E33502-AA2A-4D10-9EB4-BDC7A7D2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C1A0731-A219-48DE-A271-3039F9B7A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F5A2EC0-0C47-4FAD-BA89-21981A860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89AB9FE-5033-41FC-9F2F-EA27F406C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BFF8509-76CA-4840-9C5B-A1EF7CD8F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3C53B5F-316B-4B5C-A9A8-C083D5ADF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7E25D3A-AC41-4E4B-BB55-A78C0DD9B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C37FBCD-DC48-472F-B83A-565A3E47C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B7DFB-1C64-4756-BA98-289E4D404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02FD320-F81B-4BDB-9C1C-FCD3D7AE5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A4BA5F3-2A40-4636-946E-AA6E27D08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D225A7B-D1A4-4215-9A6E-FF6DFEF93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076850B-6F41-4D4E-86D5-672354410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5CE1D17-85C5-466C-BD18-2D8DC76E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6F5D89F-588B-441E-B48F-2E7FCA48D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B84CE8F-0D49-43F6-A33E-FA340F3D5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E592EEF-FB83-470A-A491-F465B52DB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B1EE39B-67CB-4223-9F84-A68556ADC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606802A-3996-4C18-8FA3-E86B58570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A0C78-7223-41A6-8E60-50260FD6F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3AF3306-27CB-4066-ADAC-FDA643159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FEE94EC-FF58-4607-B4BE-BB263CBFE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E22C014-C1B4-4F9F-AAEA-1F06AB23B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27EA127-7477-4D6A-BA7F-A30DB796D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10653B0-7021-4611-B02F-D5CA9C30B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8BB76FC-7B62-49A0-A849-DB597A28E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09793A1-A183-446F-91BB-15EDED623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A80343C-7CF6-489C-ABF1-5305DE402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884D354-9415-4CA0-9BA3-F11FEFC10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4982155-7F70-459F-BE73-FAB0D1677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E6F25-7748-4F57-808E-8633C31EA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51E6994-594C-4C11-A06D-92D143CB1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0DCCFC6-4BBD-40EE-88E3-7FB67A74E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85B4A03-683C-4271-8A75-E7ECF0DED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B5E83A4-1159-47A1-BDB2-E46AC78D8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29DFD95-F5F2-4364-8654-8775D7684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A03BAC3-77AB-46B9-96B2-FD5C7AC14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48838D9-64F0-41D5-813B-DB8CCB367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F3B3E6A-0F17-4C1E-8AA3-2567F7367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F19E3F9-E3E3-4F06-A14D-BF08AE5EB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00A1586-BF30-4028-A660-C47E980B0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4C645-5024-49E4-8791-1AA9C639E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6A6DA28-B527-4247-B3D3-55DF33EC5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4FF80F4-0DA2-4EDD-85D1-C10AA53F7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5079958-1015-4805-A6B7-2D8CBE5C2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07B44-B256-49D8-BCD4-E303C754B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936C0-E931-4035-B70A-8127B9565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AEDE-FA68-4F14-A2BC-6DFCE4B1C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04742-88F7-45BD-962D-ED3143F30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E7BD3-6227-417A-B271-70B75A1D6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D5E50-439C-4D3F-BC65-E636FB1CB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3A1B0-C63D-49FA-89EB-FB4B049A7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933A6-4329-4E53-9195-B4CEEF83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C5263-EC3D-4305-BD7B-5E78D2D32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2EA08-5760-4A24-9CDF-C47EC91E7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2B706-566E-46B0-A409-24A283E22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40456-2F1F-4299-8708-E31A492CF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20FD3-B025-4C58-883C-80C36754F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E29F-ACD2-4820-821C-AB8DB6C43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A29B8A-D1FF-4013-827B-24BB84DAE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EA0CE-DCEF-4EC2-8F66-AC723FCCD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E14C16-D749-4B91-81D3-F90A9DFBC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83A66-F489-4196-8CEB-F1AF1F139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DCD54D-6BBC-4E2C-83C0-755DDD1B4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DEDA0-634F-4AF2-9673-09F11B793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42A15C-6509-482C-AD39-B7E82DA6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08ED2-9700-4F7A-ABAA-A1E2AE5AA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1054AF-98B3-4E45-B2D5-67E4EF429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C1B69-78B9-444E-B990-754542D8D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06C5-A39E-4FA6-BD91-20CE8D2B0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B81965-5577-4815-BF23-EB0AA801C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C0100-43AB-4870-A28B-649608EE9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8483E-8744-478A-B3F5-1130B002D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40252E-B9DA-4D7C-B93C-4F1BE87F4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D331E0-CE9B-48E5-8F15-819BE56BF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4AF210-A966-49F5-8A9F-1D702C174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4D0E06-9833-4992-8A9E-A1496C78D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694CA8-842B-437F-AAD9-E51D7436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0C00DF-1258-48A1-9F0C-673687D37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5D1A79-21F4-434B-B592-E41F47E2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792F-A914-499A-A03C-1683944D1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A1656C-BF56-42C8-8BC7-92D4EB6DE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1D2E45-0D6E-4BD0-9095-A1EABE18D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D8A1DE-61A4-4D74-853B-955A0AA1C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072F39-8614-4548-A744-AAA8F2E90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EB5829-AF27-445C-B334-7BE494F71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6CD6BF-CD27-4E8D-A65A-5F6DC715E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292092-63A9-4984-B219-61420897E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F24425-9B27-49C4-8F8B-150447834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E5491B-AE09-4736-8601-390038ADB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B047FB-3563-44A1-AA69-AC6FE4F8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1420-5EE0-4DC9-8DD1-8027CDED0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0BB3A5-0620-400C-8174-11F9C820E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25ECDA-7178-4973-9A98-159E9C5FE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3B07AB-B70E-48A6-AF89-3AD019AD0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1D5C0E-8AD4-432B-AF08-5C4D64F6D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FF50A0-1AA5-49D9-8639-6F5C87C7F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7DFC38-9F96-45E2-BBB8-58FBAB2C5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57145D-608D-4E04-9FF6-8F545802A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B668E5-5544-44A5-B06F-F7E92B09F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3F7057-4D7D-4A46-8F90-E556D6DAD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699017-5CC0-405F-B903-949811A89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99C4-B71F-4DD1-9FA3-E21E7F83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C946AB-B8ED-425A-9493-39EB64BC6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B754CB-9276-4EF5-B3EA-680DA48F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C58E4C-5326-4995-9595-743A7FB6D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290C7E-F771-4E76-8A1A-7843B04D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966991-74A7-4348-90AD-34DB9A8CA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D0764C-26E6-4C67-9D9F-D1C7910A1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D649C3-2A05-4DDA-80D0-F05374C7D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281BA1-5C3C-42E3-8585-2BC821525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1D2064-E0A0-4B68-8F22-F94F33CF3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B8FA87-1302-482B-85E3-542348A0C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AA770-1FDF-4951-B62C-0F8127724A4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DC979-7D10-4B6A-BAA6-5EF4CD53186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B747D-5F43-4996-842B-67E281FFBDD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6B4E2-9541-4FB7-BD38-98FA7A25EE7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B0539-58B1-4487-A59F-97971BC9C1C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53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205FC-2542-4CAE-B9C6-54BEACF726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48499-A995-4F8C-B04B-2384B0C5E98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8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53438-1878-4A52-8776-5B1D43A86F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1FBAB-7BE6-4AF9-B7ED-039CEA6181A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62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7BD30-F82C-480E-AA81-60E079264B6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760D1-73D1-4897-985C-DE689A9CE7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7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26157-CE77-4C47-8887-02DE1F1374A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9CD46-3A4C-4B58-9313-72C047FBD41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1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98D72-45F2-489F-9E3A-49AD46A3633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99B58-F866-4A14-B6C2-26C6BDCB19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75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50A2C-5F9D-405D-B359-4A6A341A40A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E704F-F6B2-48BD-B07A-A2196AF197B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E7915-333A-4980-85AA-578C3C7694E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62F9A-CF89-42B4-8DCC-02F3D2BA3B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A1631-A99F-4E7F-AF3D-011350DF427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5C21A-68F7-4D1A-AA4E-17D99EF096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AE977-BA18-4555-8908-28BD3D34123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20444-36BF-4669-9ED0-5953E3708F1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8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0C5BA-100F-4E20-A08F-83282184838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4FA64-E691-4902-A7CB-216FA16C678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3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344BF-2B45-4F49-9B72-8D7C35F5AD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137FA-F7B5-4246-9BC0-7E1F9F9BD4B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97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DAEA1-C702-45AB-8786-3E3DAA95182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3A755-0BE6-4C9F-85E7-B6A2A22ABCE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02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FD122-EA35-4E63-BB15-D7ED18EF246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2CBC9-4C76-4AEF-9A0A-599F3498D9F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06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BA696-889E-4657-8A28-2C5D7D01A60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E3B8C-69AB-43FA-8901-5BD1946AD6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15E2E-7552-410D-A8EB-992B630D52D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742B5-4FDD-43B4-A232-105067CAF6F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15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8A4A2-A991-4623-9E44-BCFA80D13D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F41A0-D9DA-49FB-8A95-EC1DC7D7DA7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19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96042-7E17-4CDA-869B-0D216DC4BB3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4E2B0-12CE-481E-880F-3202CFC1FFE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567AB-C863-4ACE-ADC3-76B38092493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24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B2FD5-5071-4334-8BAF-52B68AF267E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23B23-BF4F-4E66-AF97-C46A3641A6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128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F2650-4837-4DFD-BFA5-9ECC4A97B32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B0710-AE00-4122-8DA8-9EFABE58C0C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9A178-DDF8-45B7-AB5F-236AA7D1A17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58772-465C-4D7B-9DEE-172D0F7B0CE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67AD2-430C-4F5F-AEAA-DF848F060F1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5FDF9-A0C7-4358-9ACB-20AED7F2748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655FA-2D0A-484F-8CD7-84C38F97EDA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E3580-D347-4870-BFF5-3822F8C271D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图片 40984" descr=""/>
          <p:cNvPicPr/>
          <p:nvPr/>
        </p:nvPicPr>
        <p:blipFill>
          <a:blip r:embed="rId1"/>
          <a:stretch/>
        </p:blipFill>
        <p:spPr>
          <a:xfrm>
            <a:off x="2360520" y="1241280"/>
            <a:ext cx="3762360" cy="438120"/>
          </a:xfrm>
          <a:prstGeom prst="rect">
            <a:avLst/>
          </a:prstGeom>
          <a:ln w="0">
            <a:noFill/>
          </a:ln>
        </p:spPr>
      </p:pic>
      <p:pic>
        <p:nvPicPr>
          <p:cNvPr id="1332" name="图片 40986" descr=""/>
          <p:cNvPicPr/>
          <p:nvPr/>
        </p:nvPicPr>
        <p:blipFill>
          <a:blip r:embed="rId2"/>
          <a:stretch/>
        </p:blipFill>
        <p:spPr>
          <a:xfrm>
            <a:off x="2720880" y="2498760"/>
            <a:ext cx="3067200" cy="4095720"/>
          </a:xfrm>
          <a:prstGeom prst="rect">
            <a:avLst/>
          </a:prstGeom>
          <a:ln w="0">
            <a:noFill/>
          </a:ln>
        </p:spPr>
      </p:pic>
      <p:sp>
        <p:nvSpPr>
          <p:cNvPr id="1333" name="矩形 40987"/>
          <p:cNvSpPr/>
          <p:nvPr/>
        </p:nvSpPr>
        <p:spPr>
          <a:xfrm>
            <a:off x="3894120" y="4707000"/>
            <a:ext cx="20876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矩形 40988"/>
          <p:cNvSpPr/>
          <p:nvPr/>
        </p:nvSpPr>
        <p:spPr>
          <a:xfrm>
            <a:off x="2722680" y="5025960"/>
            <a:ext cx="3259080" cy="482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矩形 40989"/>
          <p:cNvSpPr/>
          <p:nvPr/>
        </p:nvSpPr>
        <p:spPr>
          <a:xfrm>
            <a:off x="2568600" y="5570640"/>
            <a:ext cx="3259080" cy="482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矩形 40990"/>
          <p:cNvSpPr/>
          <p:nvPr/>
        </p:nvSpPr>
        <p:spPr>
          <a:xfrm>
            <a:off x="2722680" y="6114960"/>
            <a:ext cx="1069920" cy="461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4" name="图片 132097" descr=""/>
          <p:cNvPicPr/>
          <p:nvPr/>
        </p:nvPicPr>
        <p:blipFill>
          <a:blip r:embed="rId1"/>
          <a:stretch/>
        </p:blipFill>
        <p:spPr>
          <a:xfrm>
            <a:off x="709560" y="876240"/>
            <a:ext cx="7039080" cy="3581640"/>
          </a:xfrm>
          <a:prstGeom prst="rect">
            <a:avLst/>
          </a:prstGeom>
          <a:ln w="0">
            <a:noFill/>
          </a:ln>
        </p:spPr>
      </p:pic>
      <p:sp>
        <p:nvSpPr>
          <p:cNvPr id="1385" name="矩形 132098"/>
          <p:cNvSpPr/>
          <p:nvPr/>
        </p:nvSpPr>
        <p:spPr>
          <a:xfrm>
            <a:off x="1130400" y="1716120"/>
            <a:ext cx="7068960" cy="79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矩形 132099"/>
          <p:cNvSpPr/>
          <p:nvPr/>
        </p:nvSpPr>
        <p:spPr>
          <a:xfrm>
            <a:off x="1612800" y="2639880"/>
            <a:ext cx="4695840" cy="79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矩形 132100"/>
          <p:cNvSpPr/>
          <p:nvPr/>
        </p:nvSpPr>
        <p:spPr>
          <a:xfrm>
            <a:off x="2463840" y="3535200"/>
            <a:ext cx="2733480" cy="400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矩形 132101"/>
          <p:cNvSpPr/>
          <p:nvPr/>
        </p:nvSpPr>
        <p:spPr>
          <a:xfrm>
            <a:off x="2309760" y="4048200"/>
            <a:ext cx="273384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9" dur="10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4" dur="10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9" dur="10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4" dur="10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9" name="图片 131073" descr=""/>
          <p:cNvPicPr/>
          <p:nvPr/>
        </p:nvPicPr>
        <p:blipFill>
          <a:blip r:embed="rId1"/>
          <a:stretch/>
        </p:blipFill>
        <p:spPr>
          <a:xfrm>
            <a:off x="203040" y="838080"/>
            <a:ext cx="8001000" cy="2819520"/>
          </a:xfrm>
          <a:prstGeom prst="rect">
            <a:avLst/>
          </a:prstGeom>
          <a:ln w="0">
            <a:noFill/>
          </a:ln>
        </p:spPr>
      </p:pic>
      <p:pic>
        <p:nvPicPr>
          <p:cNvPr id="1390" name="图片 131074" descr=""/>
          <p:cNvPicPr/>
          <p:nvPr/>
        </p:nvPicPr>
        <p:blipFill>
          <a:blip r:embed="rId2"/>
          <a:stretch/>
        </p:blipFill>
        <p:spPr>
          <a:xfrm>
            <a:off x="784080" y="3681360"/>
            <a:ext cx="7524720" cy="1933560"/>
          </a:xfrm>
          <a:prstGeom prst="rect">
            <a:avLst/>
          </a:prstGeom>
          <a:ln w="0">
            <a:noFill/>
          </a:ln>
        </p:spPr>
      </p:pic>
      <p:sp>
        <p:nvSpPr>
          <p:cNvPr id="1391" name="矩形 131075"/>
          <p:cNvSpPr/>
          <p:nvPr/>
        </p:nvSpPr>
        <p:spPr>
          <a:xfrm>
            <a:off x="779400" y="2641680"/>
            <a:ext cx="7562880" cy="401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矩形 131076"/>
          <p:cNvSpPr/>
          <p:nvPr/>
        </p:nvSpPr>
        <p:spPr>
          <a:xfrm>
            <a:off x="758880" y="3156120"/>
            <a:ext cx="7562880" cy="401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矩形 131077"/>
          <p:cNvSpPr/>
          <p:nvPr/>
        </p:nvSpPr>
        <p:spPr>
          <a:xfrm>
            <a:off x="727200" y="3608280"/>
            <a:ext cx="7562880" cy="40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矩形 131078"/>
          <p:cNvSpPr/>
          <p:nvPr/>
        </p:nvSpPr>
        <p:spPr>
          <a:xfrm>
            <a:off x="708120" y="4152960"/>
            <a:ext cx="7562880" cy="401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矩形 131079"/>
          <p:cNvSpPr/>
          <p:nvPr/>
        </p:nvSpPr>
        <p:spPr>
          <a:xfrm>
            <a:off x="696960" y="4665600"/>
            <a:ext cx="7562880" cy="40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矩形 131080"/>
          <p:cNvSpPr/>
          <p:nvPr/>
        </p:nvSpPr>
        <p:spPr>
          <a:xfrm>
            <a:off x="696960" y="5189400"/>
            <a:ext cx="7562880" cy="40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1" dur="10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6" dur="10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1" dur="10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6" dur="10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1" dur="10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6" dur="10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7" name="图片 130049" descr=""/>
          <p:cNvPicPr/>
          <p:nvPr/>
        </p:nvPicPr>
        <p:blipFill>
          <a:blip r:embed="rId1"/>
          <a:stretch/>
        </p:blipFill>
        <p:spPr>
          <a:xfrm>
            <a:off x="237960" y="946080"/>
            <a:ext cx="805824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8" name="图片 129025" descr=""/>
          <p:cNvPicPr/>
          <p:nvPr/>
        </p:nvPicPr>
        <p:blipFill>
          <a:blip r:embed="rId1"/>
          <a:stretch/>
        </p:blipFill>
        <p:spPr>
          <a:xfrm>
            <a:off x="706320" y="901800"/>
            <a:ext cx="7629480" cy="3581280"/>
          </a:xfrm>
          <a:prstGeom prst="rect">
            <a:avLst/>
          </a:prstGeom>
          <a:ln w="0">
            <a:noFill/>
          </a:ln>
        </p:spPr>
      </p:pic>
      <p:sp>
        <p:nvSpPr>
          <p:cNvPr id="1399" name="矩形 129026"/>
          <p:cNvSpPr/>
          <p:nvPr/>
        </p:nvSpPr>
        <p:spPr>
          <a:xfrm>
            <a:off x="760320" y="905040"/>
            <a:ext cx="7758360" cy="420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矩形 129027"/>
          <p:cNvSpPr/>
          <p:nvPr/>
        </p:nvSpPr>
        <p:spPr>
          <a:xfrm>
            <a:off x="636480" y="1407960"/>
            <a:ext cx="7758360" cy="420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矩形 129028"/>
          <p:cNvSpPr/>
          <p:nvPr/>
        </p:nvSpPr>
        <p:spPr>
          <a:xfrm>
            <a:off x="534960" y="1922400"/>
            <a:ext cx="7758000" cy="420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矩形 129029"/>
          <p:cNvSpPr/>
          <p:nvPr/>
        </p:nvSpPr>
        <p:spPr>
          <a:xfrm>
            <a:off x="534960" y="2395440"/>
            <a:ext cx="7758000" cy="420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矩形 129030"/>
          <p:cNvSpPr/>
          <p:nvPr/>
        </p:nvSpPr>
        <p:spPr>
          <a:xfrm>
            <a:off x="596880" y="2930400"/>
            <a:ext cx="7758000" cy="420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矩形 129031"/>
          <p:cNvSpPr/>
          <p:nvPr/>
        </p:nvSpPr>
        <p:spPr>
          <a:xfrm>
            <a:off x="596880" y="3454560"/>
            <a:ext cx="7758000" cy="420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矩形 129032"/>
          <p:cNvSpPr/>
          <p:nvPr/>
        </p:nvSpPr>
        <p:spPr>
          <a:xfrm>
            <a:off x="555480" y="3989520"/>
            <a:ext cx="7758360" cy="420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3" dur="10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8" dur="10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3" dur="10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8" dur="10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3" dur="10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8" dur="10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3" dur="10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6" name="图片 128001" descr=""/>
          <p:cNvPicPr/>
          <p:nvPr/>
        </p:nvPicPr>
        <p:blipFill>
          <a:blip r:embed="rId1"/>
          <a:stretch/>
        </p:blipFill>
        <p:spPr>
          <a:xfrm>
            <a:off x="357120" y="882720"/>
            <a:ext cx="8124840" cy="56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7" name="图片 126977" descr=""/>
          <p:cNvPicPr/>
          <p:nvPr/>
        </p:nvPicPr>
        <p:blipFill>
          <a:blip r:embed="rId1"/>
          <a:stretch/>
        </p:blipFill>
        <p:spPr>
          <a:xfrm>
            <a:off x="757080" y="1036800"/>
            <a:ext cx="7477200" cy="4047840"/>
          </a:xfrm>
          <a:prstGeom prst="rect">
            <a:avLst/>
          </a:prstGeom>
          <a:ln w="0">
            <a:noFill/>
          </a:ln>
        </p:spPr>
      </p:pic>
      <p:sp>
        <p:nvSpPr>
          <p:cNvPr id="1408" name="矩形 126978"/>
          <p:cNvSpPr/>
          <p:nvPr/>
        </p:nvSpPr>
        <p:spPr>
          <a:xfrm>
            <a:off x="843120" y="1058760"/>
            <a:ext cx="7665840" cy="400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矩形 126979"/>
          <p:cNvSpPr/>
          <p:nvPr/>
        </p:nvSpPr>
        <p:spPr>
          <a:xfrm>
            <a:off x="668160" y="1593720"/>
            <a:ext cx="7666200" cy="400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矩形 126980"/>
          <p:cNvSpPr/>
          <p:nvPr/>
        </p:nvSpPr>
        <p:spPr>
          <a:xfrm>
            <a:off x="647640" y="2076480"/>
            <a:ext cx="766620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矩形 126981"/>
          <p:cNvSpPr/>
          <p:nvPr/>
        </p:nvSpPr>
        <p:spPr>
          <a:xfrm>
            <a:off x="617400" y="2610000"/>
            <a:ext cx="766620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矩形 126982"/>
          <p:cNvSpPr/>
          <p:nvPr/>
        </p:nvSpPr>
        <p:spPr>
          <a:xfrm>
            <a:off x="587520" y="3144960"/>
            <a:ext cx="766584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矩形 126983"/>
          <p:cNvSpPr/>
          <p:nvPr/>
        </p:nvSpPr>
        <p:spPr>
          <a:xfrm>
            <a:off x="608040" y="3595680"/>
            <a:ext cx="766584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矩形 126984"/>
          <p:cNvSpPr/>
          <p:nvPr/>
        </p:nvSpPr>
        <p:spPr>
          <a:xfrm>
            <a:off x="628560" y="4119480"/>
            <a:ext cx="766620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矩形 126985"/>
          <p:cNvSpPr/>
          <p:nvPr/>
        </p:nvSpPr>
        <p:spPr>
          <a:xfrm>
            <a:off x="587520" y="4633920"/>
            <a:ext cx="766584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0" dur="10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5" dur="10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0" dur="10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5" dur="10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0" dur="10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5" dur="10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0" dur="10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5" dur="10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6" name="图片 125953" descr=""/>
          <p:cNvPicPr/>
          <p:nvPr/>
        </p:nvPicPr>
        <p:blipFill>
          <a:blip r:embed="rId1"/>
          <a:stretch/>
        </p:blipFill>
        <p:spPr>
          <a:xfrm>
            <a:off x="835200" y="1160640"/>
            <a:ext cx="7372080" cy="2504880"/>
          </a:xfrm>
          <a:prstGeom prst="rect">
            <a:avLst/>
          </a:prstGeom>
          <a:ln w="0">
            <a:noFill/>
          </a:ln>
        </p:spPr>
      </p:pic>
      <p:sp>
        <p:nvSpPr>
          <p:cNvPr id="1417" name="矩形 125954"/>
          <p:cNvSpPr/>
          <p:nvPr/>
        </p:nvSpPr>
        <p:spPr>
          <a:xfrm>
            <a:off x="770040" y="1212840"/>
            <a:ext cx="76341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矩形 125955"/>
          <p:cNvSpPr/>
          <p:nvPr/>
        </p:nvSpPr>
        <p:spPr>
          <a:xfrm>
            <a:off x="709560" y="1725480"/>
            <a:ext cx="76345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矩形 125956"/>
          <p:cNvSpPr/>
          <p:nvPr/>
        </p:nvSpPr>
        <p:spPr>
          <a:xfrm>
            <a:off x="668160" y="2208240"/>
            <a:ext cx="76345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矩形 125957"/>
          <p:cNvSpPr/>
          <p:nvPr/>
        </p:nvSpPr>
        <p:spPr>
          <a:xfrm>
            <a:off x="514440" y="2784600"/>
            <a:ext cx="76341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矩形 125958"/>
          <p:cNvSpPr/>
          <p:nvPr/>
        </p:nvSpPr>
        <p:spPr>
          <a:xfrm>
            <a:off x="523800" y="3267000"/>
            <a:ext cx="76345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2" dur="10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7" dur="10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2" dur="10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7" dur="10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2" dur="10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7" name="图片 140289" descr=""/>
          <p:cNvPicPr/>
          <p:nvPr/>
        </p:nvPicPr>
        <p:blipFill>
          <a:blip r:embed="rId1"/>
          <a:stretch/>
        </p:blipFill>
        <p:spPr>
          <a:xfrm>
            <a:off x="304920" y="912960"/>
            <a:ext cx="8534160" cy="3762360"/>
          </a:xfrm>
          <a:prstGeom prst="rect">
            <a:avLst/>
          </a:prstGeom>
          <a:ln w="0">
            <a:noFill/>
          </a:ln>
        </p:spPr>
      </p:pic>
      <p:sp>
        <p:nvSpPr>
          <p:cNvPr id="1338" name="矩形 140290"/>
          <p:cNvSpPr/>
          <p:nvPr/>
        </p:nvSpPr>
        <p:spPr>
          <a:xfrm>
            <a:off x="4632480" y="1635120"/>
            <a:ext cx="69984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矩形 140291"/>
          <p:cNvSpPr/>
          <p:nvPr/>
        </p:nvSpPr>
        <p:spPr>
          <a:xfrm>
            <a:off x="841320" y="1922400"/>
            <a:ext cx="121284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矩形 140292"/>
          <p:cNvSpPr/>
          <p:nvPr/>
        </p:nvSpPr>
        <p:spPr>
          <a:xfrm>
            <a:off x="800280" y="2232000"/>
            <a:ext cx="55548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矩形 140293"/>
          <p:cNvSpPr/>
          <p:nvPr/>
        </p:nvSpPr>
        <p:spPr>
          <a:xfrm>
            <a:off x="2895480" y="2232000"/>
            <a:ext cx="843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矩形 140294"/>
          <p:cNvSpPr/>
          <p:nvPr/>
        </p:nvSpPr>
        <p:spPr>
          <a:xfrm>
            <a:off x="3573360" y="2550960"/>
            <a:ext cx="6685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矩形 140295"/>
          <p:cNvSpPr/>
          <p:nvPr/>
        </p:nvSpPr>
        <p:spPr>
          <a:xfrm>
            <a:off x="4950000" y="2550960"/>
            <a:ext cx="66816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矩形 140296"/>
          <p:cNvSpPr/>
          <p:nvPr/>
        </p:nvSpPr>
        <p:spPr>
          <a:xfrm>
            <a:off x="4538520" y="3486240"/>
            <a:ext cx="1305000" cy="245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矩形 140297"/>
          <p:cNvSpPr/>
          <p:nvPr/>
        </p:nvSpPr>
        <p:spPr>
          <a:xfrm>
            <a:off x="5052960" y="3773520"/>
            <a:ext cx="1305000" cy="245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6" name="图片 139265" descr=""/>
          <p:cNvPicPr/>
          <p:nvPr/>
        </p:nvPicPr>
        <p:blipFill>
          <a:blip r:embed="rId1"/>
          <a:stretch/>
        </p:blipFill>
        <p:spPr>
          <a:xfrm>
            <a:off x="357120" y="900000"/>
            <a:ext cx="8505720" cy="4295880"/>
          </a:xfrm>
          <a:prstGeom prst="rect">
            <a:avLst/>
          </a:prstGeom>
          <a:ln w="0">
            <a:noFill/>
          </a:ln>
        </p:spPr>
      </p:pic>
      <p:sp>
        <p:nvSpPr>
          <p:cNvPr id="1347" name="矩形 139266"/>
          <p:cNvSpPr/>
          <p:nvPr/>
        </p:nvSpPr>
        <p:spPr>
          <a:xfrm>
            <a:off x="8259840" y="157176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矩形 139267"/>
          <p:cNvSpPr/>
          <p:nvPr/>
        </p:nvSpPr>
        <p:spPr>
          <a:xfrm>
            <a:off x="8291520" y="266076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矩形 139268"/>
          <p:cNvSpPr/>
          <p:nvPr/>
        </p:nvSpPr>
        <p:spPr>
          <a:xfrm>
            <a:off x="8321760" y="437688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0" name="图片 138241" descr=""/>
          <p:cNvPicPr/>
          <p:nvPr/>
        </p:nvPicPr>
        <p:blipFill>
          <a:blip r:embed="rId1"/>
          <a:stretch/>
        </p:blipFill>
        <p:spPr>
          <a:xfrm>
            <a:off x="420840" y="884160"/>
            <a:ext cx="8505720" cy="3133800"/>
          </a:xfrm>
          <a:prstGeom prst="rect">
            <a:avLst/>
          </a:prstGeom>
          <a:ln w="0">
            <a:noFill/>
          </a:ln>
        </p:spPr>
      </p:pic>
      <p:sp>
        <p:nvSpPr>
          <p:cNvPr id="1351" name="矩形 138242"/>
          <p:cNvSpPr/>
          <p:nvPr/>
        </p:nvSpPr>
        <p:spPr>
          <a:xfrm>
            <a:off x="4613400" y="905040"/>
            <a:ext cx="5968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矩形 138243"/>
          <p:cNvSpPr/>
          <p:nvPr/>
        </p:nvSpPr>
        <p:spPr>
          <a:xfrm>
            <a:off x="8302680" y="905040"/>
            <a:ext cx="3096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矩形 138244"/>
          <p:cNvSpPr/>
          <p:nvPr/>
        </p:nvSpPr>
        <p:spPr>
          <a:xfrm>
            <a:off x="2846520" y="1224000"/>
            <a:ext cx="5666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矩形 138245"/>
          <p:cNvSpPr/>
          <p:nvPr/>
        </p:nvSpPr>
        <p:spPr>
          <a:xfrm>
            <a:off x="3728880" y="2149560"/>
            <a:ext cx="7509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矩形 138246"/>
          <p:cNvSpPr/>
          <p:nvPr/>
        </p:nvSpPr>
        <p:spPr>
          <a:xfrm>
            <a:off x="646200" y="3084480"/>
            <a:ext cx="5927760" cy="3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矩形 138247"/>
          <p:cNvSpPr/>
          <p:nvPr/>
        </p:nvSpPr>
        <p:spPr>
          <a:xfrm>
            <a:off x="1273320" y="3382920"/>
            <a:ext cx="2116080" cy="3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矩形 138248"/>
          <p:cNvSpPr/>
          <p:nvPr/>
        </p:nvSpPr>
        <p:spPr>
          <a:xfrm>
            <a:off x="1386000" y="3711600"/>
            <a:ext cx="2116080" cy="307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8" name="图片 137217" descr=""/>
          <p:cNvPicPr/>
          <p:nvPr/>
        </p:nvPicPr>
        <p:blipFill>
          <a:blip r:embed="rId1"/>
          <a:stretch/>
        </p:blipFill>
        <p:spPr>
          <a:xfrm>
            <a:off x="684360" y="907920"/>
            <a:ext cx="7819920" cy="4152960"/>
          </a:xfrm>
          <a:prstGeom prst="rect">
            <a:avLst/>
          </a:prstGeom>
          <a:ln w="0">
            <a:noFill/>
          </a:ln>
        </p:spPr>
      </p:pic>
      <p:sp>
        <p:nvSpPr>
          <p:cNvPr id="1359" name="矩形 137218"/>
          <p:cNvSpPr/>
          <p:nvPr/>
        </p:nvSpPr>
        <p:spPr>
          <a:xfrm>
            <a:off x="677880" y="1224000"/>
            <a:ext cx="78818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矩形 137219"/>
          <p:cNvSpPr/>
          <p:nvPr/>
        </p:nvSpPr>
        <p:spPr>
          <a:xfrm>
            <a:off x="698400" y="1522440"/>
            <a:ext cx="78822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矩形 137220"/>
          <p:cNvSpPr/>
          <p:nvPr/>
        </p:nvSpPr>
        <p:spPr>
          <a:xfrm>
            <a:off x="595440" y="2744640"/>
            <a:ext cx="7410240" cy="49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矩形 137221"/>
          <p:cNvSpPr/>
          <p:nvPr/>
        </p:nvSpPr>
        <p:spPr>
          <a:xfrm>
            <a:off x="822240" y="3360600"/>
            <a:ext cx="4183200" cy="49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矩形 137222"/>
          <p:cNvSpPr/>
          <p:nvPr/>
        </p:nvSpPr>
        <p:spPr>
          <a:xfrm>
            <a:off x="884160" y="3946680"/>
            <a:ext cx="4183200" cy="49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矩形 137223"/>
          <p:cNvSpPr/>
          <p:nvPr/>
        </p:nvSpPr>
        <p:spPr>
          <a:xfrm>
            <a:off x="1440000" y="4532400"/>
            <a:ext cx="2046240" cy="49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1000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10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10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10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5" name="图片 136193" descr=""/>
          <p:cNvPicPr/>
          <p:nvPr/>
        </p:nvPicPr>
        <p:blipFill>
          <a:blip r:embed="rId1"/>
          <a:stretch/>
        </p:blipFill>
        <p:spPr>
          <a:xfrm>
            <a:off x="190440" y="888840"/>
            <a:ext cx="8001000" cy="4114800"/>
          </a:xfrm>
          <a:prstGeom prst="rect">
            <a:avLst/>
          </a:prstGeom>
          <a:ln w="0">
            <a:noFill/>
          </a:ln>
        </p:spPr>
      </p:pic>
      <p:sp>
        <p:nvSpPr>
          <p:cNvPr id="1366" name="矩形 136194"/>
          <p:cNvSpPr/>
          <p:nvPr/>
        </p:nvSpPr>
        <p:spPr>
          <a:xfrm>
            <a:off x="7480440" y="253836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矩形 136195"/>
          <p:cNvSpPr/>
          <p:nvPr/>
        </p:nvSpPr>
        <p:spPr>
          <a:xfrm>
            <a:off x="6032520" y="360684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矩形 136196"/>
          <p:cNvSpPr/>
          <p:nvPr/>
        </p:nvSpPr>
        <p:spPr>
          <a:xfrm>
            <a:off x="957240" y="461340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10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10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10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9" name="图片 135169" descr=""/>
          <p:cNvPicPr/>
          <p:nvPr/>
        </p:nvPicPr>
        <p:blipFill>
          <a:blip r:embed="rId1"/>
          <a:stretch/>
        </p:blipFill>
        <p:spPr>
          <a:xfrm>
            <a:off x="295200" y="969840"/>
            <a:ext cx="8096400" cy="4486320"/>
          </a:xfrm>
          <a:prstGeom prst="rect">
            <a:avLst/>
          </a:prstGeom>
          <a:ln w="0">
            <a:noFill/>
          </a:ln>
        </p:spPr>
      </p:pic>
      <p:sp>
        <p:nvSpPr>
          <p:cNvPr id="1370" name="矩形 135170"/>
          <p:cNvSpPr/>
          <p:nvPr/>
        </p:nvSpPr>
        <p:spPr>
          <a:xfrm>
            <a:off x="7529400" y="1994040"/>
            <a:ext cx="771480" cy="33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矩形 135171"/>
          <p:cNvSpPr/>
          <p:nvPr/>
        </p:nvSpPr>
        <p:spPr>
          <a:xfrm>
            <a:off x="708120" y="2487600"/>
            <a:ext cx="1520640" cy="33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矩形 135172"/>
          <p:cNvSpPr/>
          <p:nvPr/>
        </p:nvSpPr>
        <p:spPr>
          <a:xfrm>
            <a:off x="1417680" y="4048200"/>
            <a:ext cx="5837040" cy="33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矩形 135173"/>
          <p:cNvSpPr/>
          <p:nvPr/>
        </p:nvSpPr>
        <p:spPr>
          <a:xfrm>
            <a:off x="2095560" y="4583160"/>
            <a:ext cx="2601720" cy="33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矩形 135174"/>
          <p:cNvSpPr/>
          <p:nvPr/>
        </p:nvSpPr>
        <p:spPr>
          <a:xfrm>
            <a:off x="2413080" y="5108400"/>
            <a:ext cx="2138400" cy="33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10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10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10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10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5" name="图片 134145" descr=""/>
          <p:cNvPicPr/>
          <p:nvPr/>
        </p:nvPicPr>
        <p:blipFill>
          <a:blip r:embed="rId1"/>
          <a:stretch/>
        </p:blipFill>
        <p:spPr>
          <a:xfrm>
            <a:off x="685800" y="973080"/>
            <a:ext cx="7010280" cy="3438720"/>
          </a:xfrm>
          <a:prstGeom prst="rect">
            <a:avLst/>
          </a:prstGeom>
          <a:ln w="0">
            <a:noFill/>
          </a:ln>
        </p:spPr>
      </p:pic>
      <p:sp>
        <p:nvSpPr>
          <p:cNvPr id="1376" name="矩形 134146"/>
          <p:cNvSpPr/>
          <p:nvPr/>
        </p:nvSpPr>
        <p:spPr>
          <a:xfrm>
            <a:off x="1087560" y="1828800"/>
            <a:ext cx="6834240" cy="749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矩形 134147"/>
          <p:cNvSpPr/>
          <p:nvPr/>
        </p:nvSpPr>
        <p:spPr>
          <a:xfrm>
            <a:off x="2084400" y="2773440"/>
            <a:ext cx="4017960" cy="749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矩形 134148"/>
          <p:cNvSpPr/>
          <p:nvPr/>
        </p:nvSpPr>
        <p:spPr>
          <a:xfrm>
            <a:off x="2155680" y="3687840"/>
            <a:ext cx="4017960" cy="749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10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10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9" name="图片 133121" descr=""/>
          <p:cNvPicPr/>
          <p:nvPr/>
        </p:nvPicPr>
        <p:blipFill>
          <a:blip r:embed="rId1"/>
          <a:stretch/>
        </p:blipFill>
        <p:spPr>
          <a:xfrm>
            <a:off x="701640" y="895320"/>
            <a:ext cx="7334280" cy="2476440"/>
          </a:xfrm>
          <a:prstGeom prst="rect">
            <a:avLst/>
          </a:prstGeom>
          <a:ln w="0">
            <a:noFill/>
          </a:ln>
        </p:spPr>
      </p:pic>
      <p:sp>
        <p:nvSpPr>
          <p:cNvPr id="1380" name="矩形 133122"/>
          <p:cNvSpPr/>
          <p:nvPr/>
        </p:nvSpPr>
        <p:spPr>
          <a:xfrm>
            <a:off x="1170000" y="1378080"/>
            <a:ext cx="68324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矩形 133123"/>
          <p:cNvSpPr/>
          <p:nvPr/>
        </p:nvSpPr>
        <p:spPr>
          <a:xfrm>
            <a:off x="1735200" y="1870200"/>
            <a:ext cx="4059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矩形 133124"/>
          <p:cNvSpPr/>
          <p:nvPr/>
        </p:nvSpPr>
        <p:spPr>
          <a:xfrm>
            <a:off x="1806480" y="2363760"/>
            <a:ext cx="40593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矩形 133125"/>
          <p:cNvSpPr/>
          <p:nvPr/>
        </p:nvSpPr>
        <p:spPr>
          <a:xfrm>
            <a:off x="1785960" y="2867040"/>
            <a:ext cx="4059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7" dur="10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2" dur="10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7" dur="10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2" dur="10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30T08:15:46Z</dcterms:modified>
  <cp:revision>7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